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3A9-FBD0-425B-B9FA-C8F1BF64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97F-AC2A-40DC-92BC-F6ADE42E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821-83D4-438D-8E48-4843820A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8FA-DBB1-47E1-B118-FDD4B4D2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F1D-9CF0-44D2-8ED4-256A3522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9AF-078D-43A8-8AD6-26B22EE4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0F1-C47A-4845-A861-4B9FD699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649-9E8A-4882-B67B-CFEAB03E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9E6-7BDB-4D3E-A3BE-656C1BD0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D81-DFC4-42C1-BA31-AC36D55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CC0-A5E7-4BF7-89EF-C5DB257D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BF3-83D2-420F-99DA-FA91D9B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EC85-64F2-4DAB-AD00-96B277A82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predni kurs o visokotehnološkom kriminalu za sudije i tuži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sija 1.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Zatvaranje kursa i povratne informa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j ove sesije je da omogući delegatima da ponude povratne informacije o kursu i pomognu instruktoru u prepoznavanju neophodnih poboljšanja. Cilj je takođe da instruktor ukratko ponovi sadržaj kursa pozivajući se na njegove ciljeve i svrh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ude odgovarajuće povratne informacije o kursu i njegovoj delotvor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une formulare Saveta Evrope o proceni k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oznaju sledeći nivo učenja koji im je potreban da bi unapredili svoja znanja i veštine u oblasti koja se ovde izuč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 ku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kraju ovog kursa, delegati će biti u stanju da razmatraju pitanja koja su relevantna za istrage sajber-kriminala, uključujuć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šenje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vrste krivičnog dela koje je izvrš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alaženje dokaza, svedoka i osumnjičen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đivanje dokaza na prihvatljiv način, bez obzira na to gde se nal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a za aktivnosti pretrage i oduzimanja elektronskih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vljenje elektronskim uređajima koji su deo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aveštavanje forenzičkih specijalista i drugih koji su potrebni da podrže fazu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a za razgovore s osumnjičen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zentacija dokaza o sajber-krimin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matranje relevantnih aspekata tokom sudskog postup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spored aktivnosti – prv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00-10:00 – Uvod kursa, instruktora i scenar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-11:00 – Prezentacija – Razvijanje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00-11:30 -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30-13:00 – Grupni rad na prepoznavanju krivičnih dela, razvijanju plana istrage i scena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:00-14:00 -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00-14:30 – Prezentacija – Međunarodna sarad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30-15:30 – Grupni rad o međunarodnoj sarad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30-16:00 -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:00-17:00 – Grupni rad na identifikaciji počinioca i planiranju strategije hapš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pored aktivnosti – drugi 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00-09:15 – Pregled prvog dana – Informacije o hapšenju/hapše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15-10:45 – Prezentacija – Digitalna forenz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-11:15 -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-13:00 – Grupni rad na digitalnim dokazima, potrebama za dokazima, osumnjičenima, jurisdikcijama i međunarodnim pita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:00-14:00 -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00-14:30 – Prezentacija – pripremanje predmeta za s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30-15:30 – Grupni rad o finalizaciji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30-16:00 -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:00-17:00 – Pregled predmeta, intervencije instruktorskog tima i delegata, procene, povratne informacije i zatvaranje k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gled ciljeva ses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e odgovarajuće povratne informacije o kursu i njegovoj delotvor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une formulare Saveta Evrope o proceni k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ju sledeći stepen obrazovanja koji im je neophodan kako bi unapredili svoje znanje i veštine u predmetu izuča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47840" y="31284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2:22:28Z</dcterms:created>
  <dc:creator>Master</dc:creator>
  <dc:description/>
  <dc:language>en-US</dc:language>
  <cp:lastModifiedBy>Master</cp:lastModifiedBy>
  <dcterms:modified xsi:type="dcterms:W3CDTF">2013-09-12T13:13:42Z</dcterms:modified>
  <cp:revision>4</cp:revision>
  <dc:subject/>
  <dc:title>      v          v   jhhjjh  hhhhhhhhhhhhhhhhhhhhhhhbb vb vvvvvvvvvvvvvvvvvvvvvvvvvvvv</dc:title>
</cp:coreProperties>
</file>